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91D-1278-42DB-B7CF-FF042EA5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F2E-1FE0-4385-A3F2-E402CF1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AE5-430D-4015-A3B3-F7836D59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4BE-D892-4472-9728-41BEF0C9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FDDE-FA78-448D-AF8E-288A75BF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DA14-EF36-4917-A96C-0BA41853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CDE-F3A0-42F7-9A76-11F535D1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19F2-1800-4D0F-9DDC-5B650630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70C2-331C-4F7A-A6AF-789C4D4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7872-A08F-4301-9C89-49B261EF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437-9CE6-4A87-9A94-B0EBB47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C35-B63C-4DA9-A2D3-00A9297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BA70-ECFB-463D-80C4-06B36F4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8C2-01AC-4B98-9C1F-AE44D88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0A68-64B2-411B-9F4E-1283C808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F58E-4493-45D8-8123-3733B533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DDD-A7B3-461F-B6B3-7D09EE25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F911-02A3-40A7-ADF8-C479B1BB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1DD5A-E8F4-4763-A422-C9E0CA9E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995D-FA8A-49CF-8C74-FE74FB6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F52D-2C90-4B49-B7D3-903E9C3D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7D1A-7C96-425A-9BE9-A228515C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497-B4A8-493E-B395-8B319F6B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4A1E-B7F1-4A0E-AD31-3D4E56F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1AB7-88EB-4A5F-B461-581BEBA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9928-8C19-43BB-B3CF-7C95BAF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EE3D-8B72-43E6-96A2-0EB05168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8469-0C15-4460-BB65-345D4408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C891-CDF5-4FBD-9639-85C14E56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67CC-B634-4D0C-A400-1FFB9799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B40-121B-4BFF-AD99-4E9C9706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2A0-D471-451B-AF0F-D79677B6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842-D83E-4163-97C3-6BB7C83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A68-F1D5-42D9-8772-0E6E837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F20-9C56-42AE-93C8-691416F9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ED8-82C9-4F29-8630-F4CE0D1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620-FE2C-4472-BFA9-A09426123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BE2-115A-4B4F-82B1-B3213CB88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8715-D28F-4443-8825-BDCA767D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ing Invento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ble Dema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ven if seasonal can it be predicted and aligned with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me products can be stored cheaper than offering incent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demand is usually not a serious probl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ventory Re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l the inven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away inventory for tax benef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ll inventory at discount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t production rate for next y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ilding to order or specul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oids work in progr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offer a build and hold pl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tch encumbered accou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t deposit or letter of intent to purcha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production timelines from realistic sales estimat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nagerial Deci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ffer build and hold instead of disco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how far in advance to produce ord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l as a pseudoconsign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ing pipeline inven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derstand the initial stocking of new produc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ventory 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erage Cost Meth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FO (Last In First Ou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O (First In First Ou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verage Cost Meth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dom Us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tal cost of goods in inventory are summed and averaged to give a cost of goods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real value for this meth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F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Inventory purchased is assigned to cost of goods so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re recent purchases are applied to the inventory val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cost of Go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inventory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rease profit =higher tax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accurate for real life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F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recent inventory costs become cost of of goods so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lder purchases are assigned to inven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er cost of go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Inventory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rease Profits = lower tax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y comp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1523880"/>
          <a:ext cx="7543800" cy="5015160"/>
        </p:xfrm>
        <a:graphic>
          <a:graphicData uri="http://schemas.openxmlformats.org/drawingml/2006/table">
            <a:tbl>
              <a:tblPr/>
              <a:tblGrid>
                <a:gridCol w="2097360"/>
                <a:gridCol w="1090440"/>
                <a:gridCol w="1085760"/>
                <a:gridCol w="1090800"/>
                <a:gridCol w="1089000"/>
                <a:gridCol w="1090440"/>
              </a:tblGrid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F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F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1000 @ $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of Go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ss Pro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2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5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rting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CO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ding 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nagement Difficult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rd to measure and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value may chan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ject to frau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dden cos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cal coun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udulent Inventory Practice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ve higher cost in inventory – sell the cheaper costing product fir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maged goods labeled as work in progr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solete inventory kept at full co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ving inventory and counting tw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ents of boxes mislabel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st Inventory Probl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ement buys or produces too much of the wrong merchandise at the wrong pri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ons Manager’s Jo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Operation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duc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inuous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w material is consist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ttle work in progress (no inventor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what happens if demand fa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what happens if demand ri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finished go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mediate delive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ily controlled raw mater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Operation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ob-shop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made to or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rt production peri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embly Line Produ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 is based on the produ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Tradeoff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o much inventory me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s are tied u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orage expen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ndling expen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amaged invento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ulnerable to thef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Obsolescence (Spoila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nomic Obsolescenc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latile Demand – Greater loss pot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uild to or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vide into components (Integrat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 capacity when need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ncial Perspecti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asonal Dema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ive incentives for early sales (Dating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stomer commi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arehouse filled with your product and not the compet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s storage for your 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s Product handl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tter loan credentia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9:59:04Z</dcterms:created>
  <dc:creator>User</dc:creator>
  <dc:description/>
  <dc:language>en-US</dc:language>
  <cp:lastModifiedBy>User</cp:lastModifiedBy>
  <dcterms:modified xsi:type="dcterms:W3CDTF">2011-03-15T12:54:30Z</dcterms:modified>
  <cp:revision>4</cp:revision>
  <dc:subject/>
  <dc:title>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